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AC4-5DBE-4F18-A656-0DE3CE05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679-548A-4132-89E4-3CACDDE4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98A-A8C1-4115-9076-4FEA8B16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DB3-9619-4A1A-B9BF-0733FCC5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4E7-83A2-4FBE-9C7D-C58D193C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4E3-8A84-43DA-A4C8-11091832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30B-D1FC-45B7-9415-10229DB7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359-8DD8-47D5-9203-B711456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3E8-DDEC-440B-993E-C1083BCB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7E7-5D38-4B75-A16F-EC9E3F8A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63A-7BBD-4A11-8D7B-C204991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D7C-F93E-4244-AB88-0A86F11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500E-9991-40EC-9107-252A33BDE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image" Target="../media/image60.wmf"/><Relationship Id="rId9" Type="http://schemas.openxmlformats.org/officeDocument/2006/relationships/image" Target="../media/image61.wmf"/><Relationship Id="rId10" Type="http://schemas.openxmlformats.org/officeDocument/2006/relationships/image" Target="../media/image62.wmf"/><Relationship Id="rId11" Type="http://schemas.openxmlformats.org/officeDocument/2006/relationships/image" Target="../media/image53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305920" cy="1513080"/>
          </a:xfrm>
          <a:prstGeom prst="rect">
            <a:avLst/>
          </a:prstGeom>
          <a:gradFill rotWithShape="0">
            <a:gsLst>
              <a:gs pos="0">
                <a:srgbClr val="5e752f"/>
              </a:gs>
              <a:gs pos="50000">
                <a:srgbClr val="ccff66"/>
              </a:gs>
              <a:gs pos="100000">
                <a:srgbClr val="5e752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bstitution rules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or icosahedral quasicrys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734080"/>
            <a:ext cx="8207640" cy="82224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.E. Madison,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SC Adv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22320" y="-27000"/>
            <a:ext cx="9166320" cy="6880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16360" y="404640"/>
            <a:ext cx="3311280" cy="39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ocal matching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2320" y="-27000"/>
            <a:ext cx="916632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381720"/>
            <a:ext cx="8785440" cy="39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flation/deflation rules for golden zonohe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6381720"/>
            <a:ext cx="8785440" cy="39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late rhombohe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6381720"/>
            <a:ext cx="8785440" cy="39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hombic dodecahe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6381720"/>
            <a:ext cx="8785440" cy="39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hombic icosahe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6381720"/>
            <a:ext cx="8785440" cy="39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hombic triacontahed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16360" y="6381720"/>
            <a:ext cx="3311280" cy="39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equivalent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1080" y="6381720"/>
            <a:ext cx="1726920" cy="39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1080" y="6381720"/>
            <a:ext cx="1726920" cy="39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-22320" y="-2232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9:18:59Z</dcterms:created>
  <dc:creator>Лебедева Екатерина</dc:creator>
  <dc:description/>
  <dc:language>en-US</dc:language>
  <cp:lastModifiedBy>madison</cp:lastModifiedBy>
  <dcterms:modified xsi:type="dcterms:W3CDTF">2014-11-28T21:12:24Z</dcterms:modified>
  <cp:revision>665</cp:revision>
  <dc:subject/>
  <dc:title>Non-Euclidean (Hyperbolic) Symmetry of Nanostructures:  Curved Symmetry and Self-Similarity of Fractals, Apollonian Networks, and Vortex Vector Fields </dc:title>
</cp:coreProperties>
</file>